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oin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347-2FA9-434D-B36E-309FBC74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A3D-6889-44FA-BBAB-037E9BAD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0124-16B3-493F-BD82-A397EA69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8DE-774F-4036-85EE-98D9910E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D61F-A1CB-4F26-8E52-7AC86269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A81F-56DF-4E18-A150-A84D5444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F536-014F-499C-834D-53DB0AE5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FC90-D450-4310-B696-080F3B16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09B2-E46E-4CAB-8B38-69F45D58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42B8-3962-427E-B103-4E1FF837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F7D3-0500-40C3-9DB4-96244CA5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8DD-764A-485F-AF5C-D65AC82A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4E25-1CBF-41C7-8FD0-06017E8D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7A87-6102-4999-B5A9-44866895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7C56-8A47-4BE8-AAF5-47AFFAD0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4DA1-8535-49FA-A336-593191D3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0ACF-CCFC-4F85-B3E5-38CB589A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FB9-EACB-4B8B-952B-265903FF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FDD-2399-4015-9570-355D3C46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8765-442B-46D0-B902-23C34CCE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8E4-0E26-4D42-8EF6-1DDAC876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6B8-04A1-4E05-A175-AF6358C6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0598-EFAE-404C-9146-6B4F040F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5C4-967E-4344-A215-B1550513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5131-187F-476D-A6C7-F560C98C32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CFEA-CA33-4EF6-A4F4-355FA5AFED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Espaces – Unité 6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noms in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/ Te/ 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us/Vous/L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6407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 veux acheter un  sac à m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2120" y="403848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veux _______ acheter un sac à 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971800" y="39625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066680" y="243828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 ta mè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6407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 vas acheter une mo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40384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vais _______ acheter une mon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666880" y="3962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867280" y="167652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mon frè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43434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chetez des C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62120" y="31240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us ________ achetons des 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362320" y="28954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257800" y="1523880"/>
            <a:ext cx="358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our/à Sandr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5638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 ne donnes pas de chocola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762120" y="312408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ne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u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onne pas de chocol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343400" y="205740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tes par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*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57150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téléphones ce soir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762120" y="3124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  ___téléphone ce so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752480" y="2971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6960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0033"/>
                </a:solidFill>
                <a:latin typeface="Arial"/>
              </a:rPr>
              <a:t>Tu envoies souvent des emails </a:t>
            </a:r>
            <a:r>
              <a:rPr b="1" lang="fr-FR" sz="2800" spc="-1" strike="noStrike">
                <a:solidFill>
                  <a:srgbClr val="330033"/>
                </a:solidFill>
                <a:latin typeface="Arial"/>
              </a:rPr>
              <a:t>à tes profs</a:t>
            </a:r>
            <a:r>
              <a:rPr b="0" lang="fr-FR" sz="2800" spc="-1" strike="noStrike">
                <a:solidFill>
                  <a:srgbClr val="330033"/>
                </a:solidFill>
                <a:latin typeface="Arial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762120" y="3124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905120" y="29718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eu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oi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v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 emai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0033"/>
                </a:solidFill>
                <a:latin typeface="Arial"/>
              </a:rPr>
              <a:t>Vous donnez des cadeaux </a:t>
            </a:r>
            <a:r>
              <a:rPr b="1" lang="fr-FR" sz="2800" spc="-1" strike="noStrike">
                <a:solidFill>
                  <a:srgbClr val="330033"/>
                </a:solidFill>
                <a:latin typeface="Arial"/>
              </a:rPr>
              <a:t>à vos frères et sœurs </a:t>
            </a:r>
            <a:r>
              <a:rPr b="0" lang="fr-FR" sz="2800" spc="-1" strike="noStrike">
                <a:solidFill>
                  <a:srgbClr val="330033"/>
                </a:solidFill>
                <a:latin typeface="Arial"/>
              </a:rPr>
              <a:t>pour leur anniversair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80880" y="3124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905120" y="29718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eu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nons des cadeau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6407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’est-ce que je pourrais offrir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adame Grébe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762120" y="40384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pourrai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ui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ffrir 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ronoms lui/leu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mplace un nom introduit par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609480" y="2895480"/>
            <a:ext cx="7696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 nom représente toujours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une perso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j0149481"/>
          <p:cNvPicPr/>
          <p:nvPr/>
        </p:nvPicPr>
        <p:blipFill>
          <a:blip r:embed="rId1"/>
          <a:stretch/>
        </p:blipFill>
        <p:spPr>
          <a:xfrm>
            <a:off x="2895480" y="365760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ronoms lui/leu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fore the conjugated ver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vous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rends visit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 week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 between the conjugated verb and the infin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vais 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vous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rendre visite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ce week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ronoms lui/leu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fr-FR" sz="4600" spc="-1" strike="noStrike" u="sng">
                <a:solidFill>
                  <a:srgbClr val="000000"/>
                </a:solidFill>
                <a:uFillTx/>
                <a:latin typeface="Arial"/>
              </a:rPr>
              <a:t>lui</a:t>
            </a: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 parle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Je veux </a:t>
            </a:r>
            <a:r>
              <a:rPr b="1" lang="fr-FR" sz="4800" spc="-1" strike="noStrike" u="sng">
                <a:solidFill>
                  <a:srgbClr val="000000"/>
                </a:solidFill>
                <a:uFillTx/>
                <a:latin typeface="Arial"/>
              </a:rPr>
              <a:t>lui</a:t>
            </a: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 parl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enez un tableau – un chiffon – un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09480" y="2895480"/>
            <a:ext cx="7696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ans les phrases suivantes remplacez les noms par le pronom correc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ttention à la posi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prêtez vos g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62120" y="3124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ous  _______ prêtez vos g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2590920" y="2971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5105520" y="1828800"/>
            <a:ext cx="358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votre cop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prêtez votre liv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62120" y="31240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ous  _______ prêtez votre li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2590920" y="2971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5105520" y="1828800"/>
            <a:ext cx="358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vos am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prêtes ta valis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62120" y="31240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_______ prête ma val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1828800" y="2895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ou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prêtez de l’arg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62120" y="31240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us _________ prêtons de l’arg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1337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8:15:24Z</dcterms:created>
  <dc:creator>Mr. Smith</dc:creator>
  <dc:description/>
  <dc:language>en-US</dc:language>
  <cp:lastModifiedBy>Viviane Grebert</cp:lastModifiedBy>
  <dcterms:modified xsi:type="dcterms:W3CDTF">2011-12-04T18:44:19Z</dcterms:modified>
  <cp:revision>61</cp:revision>
  <dc:subject/>
  <dc:title>Allez, viens! – Level 2</dc:title>
</cp:coreProperties>
</file>